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571-5982-4D7F-A138-57D07A6A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7D0-6741-4D43-8C07-D106C71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196-0512-462E-9274-45E2ABEA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EA3-3ADF-41EE-9CB3-12D60905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59FE-02CB-4B4C-A01E-AFCBB553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16FB-0614-475D-A485-4D956BAA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E5FD-2720-4C76-A143-D530DF6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06F-4509-43E1-A1F1-6DCCFBE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C18A-5E1D-497D-8CD9-C650868D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30A3-CB5B-4CE7-B66C-95FA5040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492-8CF5-477E-A1D0-77C65E8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06F-0587-45A7-B6DE-E49EFCF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74E-0F0E-494F-9868-DC15A2C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93B-9230-4996-8221-AC49FE8B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D75E-57FC-4F65-A596-B08EA8D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516A-7972-4093-B587-8902F907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1FC5-D61B-4589-AE90-0F093584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40E-7AFE-4E18-BB87-C54387A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540-9D6B-459E-B330-FB69388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BD7-ECB4-4392-B0D5-8F0C8FE7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754-C444-4626-8DBB-8AB6CAB6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2C9-3ABE-4DE9-BDAD-0ABF156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384-3CE2-414B-9764-CD23A320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4AD-0950-4726-AF4C-363241C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963-17F2-4371-8742-271F4D717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A2D-55FD-4A1F-82F7-458458FB55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Happy Birthday Mrs. Bradford</a:t>
            </a:r>
            <a:br>
              <a:rPr sz="40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rom 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Mrs. Bloedorn’s Clas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25640" y="2362320"/>
            <a:ext cx="4983120" cy="3736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2193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9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48:11Z</dcterms:created>
  <dc:creator>cbloedorn</dc:creator>
  <dc:description/>
  <dc:language>en-US</dc:language>
  <cp:lastModifiedBy>cbloedorn</cp:lastModifiedBy>
  <dcterms:modified xsi:type="dcterms:W3CDTF">2008-02-21T16:28:01Z</dcterms:modified>
  <cp:revision>2</cp:revision>
  <dc:subject/>
  <dc:title>Happy Birthday Mrs. Bradford From  Mrs. Bloedorn’s Class</dc:title>
</cp:coreProperties>
</file>